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4FCC-6F80-4A98-BBCE-BDFA4C565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3994-3A9A-4001-9710-79362719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C1D6-4D11-4A1D-A094-814C8ABB0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6100-7E57-463D-A76E-C36DA60BF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F8E86-1734-443E-A311-F9CD8B199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F4E24-301C-4AE3-BF03-1F9D05BA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FA6DA-B00C-4B0C-9D8D-684D5045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2E9E5-6454-4BE7-AAB8-3319C99B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E285F-37F0-4BC9-A90B-6BFAE418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8391A-8850-4A54-98DF-879338F8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90DC4-ED63-473F-9C38-96531362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90C9-E2E4-4A71-9FB9-48EBD658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F5177-C8AC-4BEC-B701-A0E1B4F8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01301-23FD-4A51-9A30-2525F689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93E9D-A398-4CCD-800F-F668CD66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93B9A-2E04-4E8B-B826-A07C4EC12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FBD18-6994-4F2F-B2E6-FA8C63948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23F6-CE27-4B75-8F3D-6D4B7008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CC9B-E604-4313-ACF8-E18B3B69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74E2-B4B6-4BC2-94D8-92C663CC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9B18-552D-4DF9-8D84-34DD68E2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F9B0-448B-41C9-B824-475C10A9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097F-DF2A-43E2-BCCE-FBC1570F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DD51-791A-4752-95A6-415AD086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47DD-CE75-4434-AE56-2D901D0703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5AF3-9A24-4947-8CE9-E254CE3F85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ive Us A King”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United Kingdom, Part 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5, Lesson 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Kings 11:1-4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129-13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High Point in Israel’s Histo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had blessed them great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ace was on all si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agnificent temple was finish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eople were serving G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ritory was at it’s largest si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omon rich beyond comprehen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were prosperous and happ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rael the most powerful nation at the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447920"/>
            <a:ext cx="8229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lomon Falls Away From God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Kings 11:1-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omon’s weakness – foreign wo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abites, Ammonites, Edomites, Sidonians, Hittites and the Egyptian w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ed for them (sealed treati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00 wives; 300 concubi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wives turned his heart from the true G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ilt altars (high places) for the various gods of surrounding nations to please his wi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lomon Falls Away From God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Kings 11:9-1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was angered with Solom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d to know what Deut. 7:3-4 sa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appeared to him tw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d received wisdom in abund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ches beyond meas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 warnings from his father, Davi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1 Kings 2:1-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 warnings from God himself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1 Kings 3:14 and 9:1-9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mitted earlier there was only one Go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1 Kings 8:6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od’s Anger Against Solomon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Kings 11:9-1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had warned the Israelites about intermarrying with other nation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Deut. 7:3-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they did, they would turn to other g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omon did not heed this war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was angry with h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kingdom would be taken from h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tribe left to his son for David’s sake and for Jerusalem’s sa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Sum of Solomon’s Life –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Four “W’s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sd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al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lomon’s Adversaries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Kings 11:14-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dad, an Edomite, was a probl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n of an Edomite 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ed to Egypt when all males killed by Joa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ried Pharaoh's sister-in-l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ed to return to home count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is ready to rebel against Solom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zon, son of Eliad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tain over an army in Damascus, Sy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ined with Hadad in harassing Solom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lomon’s Adversaries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Kings 11:14-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roboam, son of an Ephrathit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mighty man of val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hijah met him leaving Jerusal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hijah tore Jeroboam’s new coat into 12 pie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gave Jeroboam ten pieces; he would rule over 10 trib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tribe left for Solomon’s 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omon tried to kill Jerobo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fled to Egypt until Solomon di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Death of Solomon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Kings 11:41-4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igned over all Israel for 40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ried in the City of Dav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probably died in the age range of 50-5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-2343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Kings 3:7, he said that he was “but a little child; I know not how to go out or come in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hoboam, his son, reigned after h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rael would now become a divided n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other of God’s promises is fulfil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4876920"/>
            <a:ext cx="8153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1T03:39:32Z</dcterms:created>
  <dc:creator>Frank D Vines</dc:creator>
  <dc:description/>
  <dc:language>en-US</dc:language>
  <cp:lastModifiedBy>Frank D Vines</cp:lastModifiedBy>
  <dcterms:modified xsi:type="dcterms:W3CDTF">2005-08-24T21:31:09Z</dcterms:modified>
  <cp:revision>11</cp:revision>
  <dc:subject/>
  <dc:title>“Give Us A King” The United Kingdom, Part 2</dc:title>
</cp:coreProperties>
</file>